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44C-31F1-476A-9AAB-298DFB66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CEE-927F-4103-AA6A-52B56AF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000-8F7F-4312-BEE4-4773D670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AD9-E93C-4D8B-86A4-7D2B4E02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F8F-FCAB-4903-8FBE-F79CC68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CB7-2D6A-487F-A9C6-802DD9A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6C0-185D-4397-9369-F7AEB5FD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949-9D1C-4F0B-AF8C-5739E2A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628-AD2A-45A1-8F86-30DD0881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28B-3C75-424D-A4FE-409E1C2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834-A184-4499-88D2-DCCFDA7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51C-4DEF-4303-90CE-2D47050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574-68FB-4751-B7A1-988C4DCB6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7:11:52Z</dcterms:created>
  <dc:creator>abeason</dc:creator>
  <dc:description/>
  <dc:language>en-US</dc:language>
  <cp:lastModifiedBy>abeason</cp:lastModifiedBy>
  <dcterms:modified xsi:type="dcterms:W3CDTF">2009-11-17T17:12:02Z</dcterms:modified>
  <cp:revision>1</cp:revision>
  <dc:subject/>
  <dc:title>Slide 1</dc:title>
</cp:coreProperties>
</file>